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D96-6849-4754-817B-C971C2CE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EB5-DE2B-44D0-B3C7-40A78CD3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989-0E57-4D73-9080-4A6D3F4D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E6E-FAA3-4702-9ECD-66D40951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F25E-68CE-4AFD-94E4-C52F9C95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C749-A587-4B19-96D9-1273BCC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2CB-0396-4272-87F7-BD14C81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B56A-B9B8-4862-90A5-5F3A3AD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A0E-E69F-4DC6-ABC2-8EB9F50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593-FB09-4A76-B4A5-1B6F814D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A360-232F-4C62-8511-E435572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D86-955D-44F8-9026-E6C36AF5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58BE-A08E-4A35-814A-935C42D0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F01-253C-4848-A457-44DE9A3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D70-8850-4EAB-9D84-0D1A8717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DE8-00A7-4FAE-ACFC-FC678CD5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656-A3AD-4F2D-9510-50CC8AE6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51E-F987-43A3-B8B1-A686D3E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7D2-C19C-4F67-BFB4-772CC32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A3E-C96A-4BF5-B176-854D7C6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A3C-5A15-4542-B546-FAD274F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3C8-CD34-4C82-B342-65FC243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971-E1B2-42D0-ADF3-E3BA06B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639-0BDD-491C-B750-B5FD1A3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7D83-7C38-4BDA-8BC0-A2AF29E9387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F539-4159-488C-8160-FF8900DC2BB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ctoroz.com/videos/ask-dr-oz-anti-cancer-edition-pt-1" TargetMode="External"/><Relationship Id="rId2" Type="http://schemas.openxmlformats.org/officeDocument/2006/relationships/hyperlink" Target="http://www.doctoroz.com/videos/ask-dr-oz-anti-cancer-edition-pt-2" TargetMode="External"/><Relationship Id="rId3" Type="http://schemas.openxmlformats.org/officeDocument/2006/relationships/hyperlink" Target="http://www.doctoroz.com/videos/ask-dr-oz-anti-cancer-edition-pt-3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octoroz.com/videos/prevent-skin-cance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Can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How can you reduce your ris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Dr. O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sk: Anti-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http://www.doctoroz.com/videos/ask-dr-oz-anti-cancer-edition-pt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doctoroz.com/videos/ask-dr-oz-anti-cancer-edition-pt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doctoroz.com/videos/ask-dr-oz-anti-cancer-edition-pt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Skin Cancer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FOR YOUR INFO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st common cancer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re than 3.5 million cases a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1 in 5 persons will devel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ost common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asal cell – highly c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quamous cell – highly c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lanoma – cancerous, DANGER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ABC’s of 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assymme" descr="melanoma picture.jpg"/>
          <p:cNvPicPr/>
          <p:nvPr/>
        </p:nvPicPr>
        <p:blipFill>
          <a:blip r:embed="rId1"/>
          <a:stretch/>
        </p:blipFill>
        <p:spPr>
          <a:xfrm>
            <a:off x="1523880" y="1981080"/>
            <a:ext cx="133380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border" descr="melanoma picture.jpg"/>
          <p:cNvPicPr/>
          <p:nvPr/>
        </p:nvPicPr>
        <p:blipFill>
          <a:blip r:embed="rId2"/>
          <a:stretch/>
        </p:blipFill>
        <p:spPr>
          <a:xfrm>
            <a:off x="7467480" y="2514600"/>
            <a:ext cx="1447920" cy="969840"/>
          </a:xfrm>
          <a:prstGeom prst="rect">
            <a:avLst/>
          </a:prstGeom>
          <a:ln w="0">
            <a:noFill/>
          </a:ln>
        </p:spPr>
      </p:pic>
      <p:pic>
        <p:nvPicPr>
          <p:cNvPr id="115" name="color" descr="melanoma picture.jpg"/>
          <p:cNvPicPr/>
          <p:nvPr/>
        </p:nvPicPr>
        <p:blipFill>
          <a:blip r:embed="rId3"/>
          <a:stretch/>
        </p:blipFill>
        <p:spPr>
          <a:xfrm>
            <a:off x="990720" y="30481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16" name="diameter" descr="melanoma picture.jpg"/>
          <p:cNvPicPr/>
          <p:nvPr/>
        </p:nvPicPr>
        <p:blipFill>
          <a:blip r:embed="rId4"/>
          <a:stretch/>
        </p:blipFill>
        <p:spPr>
          <a:xfrm>
            <a:off x="1752480" y="4267080"/>
            <a:ext cx="95256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emalignants" descr="melanoma picture.jpg"/>
          <p:cNvPicPr/>
          <p:nvPr/>
        </p:nvPicPr>
        <p:blipFill>
          <a:blip r:embed="rId5"/>
          <a:stretch/>
        </p:blipFill>
        <p:spPr>
          <a:xfrm>
            <a:off x="152280" y="533412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40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600200"/>
          <a:ext cx="8199360" cy="4800240"/>
        </p:xfrm>
        <a:graphic>
          <a:graphicData uri="http://schemas.openxmlformats.org/drawingml/2006/table">
            <a:tbl>
              <a:tblPr/>
              <a:tblGrid>
                <a:gridCol w="216000"/>
                <a:gridCol w="798336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symmetry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f you draw a line through this mole, the two halves will not match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e borders of an early melanoma tend to be uneven. The edges may be scalloped or notched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lo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Having a variety of colors is another warning signal. A number of different shades of brown, tan or black could appear. A melanoma may also become red, blue or some other color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amete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elanomas usually are larger in diameter than the size of the eraser on your pencil (1/4 inch or 6 mm), but they may sometimes be smaller when first detected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volving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ny change — in size, shape, color, elevation, or another trait, or any new symptom such as bleeding, itching or crusting — points to danger.</a:t>
                      </a:r>
                      <a:endParaRPr b="0" lang="en-US" sz="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l" descr="mole picture.jpg"/>
          <p:cNvPicPr/>
          <p:nvPr/>
        </p:nvPicPr>
        <p:blipFill>
          <a:blip r:embed="rId1"/>
          <a:stretch/>
        </p:blipFill>
        <p:spPr>
          <a:xfrm>
            <a:off x="3581280" y="243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1r" descr="melanoma picture.jpg"/>
          <p:cNvPicPr/>
          <p:nvPr/>
        </p:nvPicPr>
        <p:blipFill>
          <a:blip r:embed="rId2"/>
          <a:stretch/>
        </p:blipFill>
        <p:spPr>
          <a:xfrm>
            <a:off x="4800600" y="243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2l" descr="mole picture.jpg"/>
          <p:cNvPicPr/>
          <p:nvPr/>
        </p:nvPicPr>
        <p:blipFill>
          <a:blip r:embed="rId3"/>
          <a:stretch/>
        </p:blipFill>
        <p:spPr>
          <a:xfrm>
            <a:off x="3581280" y="3352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2r" descr="melanoma picture.jpg"/>
          <p:cNvPicPr/>
          <p:nvPr/>
        </p:nvPicPr>
        <p:blipFill>
          <a:blip r:embed="rId4"/>
          <a:stretch/>
        </p:blipFill>
        <p:spPr>
          <a:xfrm>
            <a:off x="4800600" y="3352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3l" descr="mole picture.jpg"/>
          <p:cNvPicPr/>
          <p:nvPr/>
        </p:nvPicPr>
        <p:blipFill>
          <a:blip r:embed="rId5"/>
          <a:stretch/>
        </p:blipFill>
        <p:spPr>
          <a:xfrm>
            <a:off x="358128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3r" descr="melanoma picture.jpg"/>
          <p:cNvPicPr/>
          <p:nvPr/>
        </p:nvPicPr>
        <p:blipFill>
          <a:blip r:embed="rId6"/>
          <a:stretch/>
        </p:blipFill>
        <p:spPr>
          <a:xfrm>
            <a:off x="480060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4l" descr="mole picture.jpg"/>
          <p:cNvPicPr/>
          <p:nvPr/>
        </p:nvPicPr>
        <p:blipFill>
          <a:blip r:embed="rId7"/>
          <a:stretch/>
        </p:blipFill>
        <p:spPr>
          <a:xfrm>
            <a:off x="3581280" y="5181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4r" descr="melanoma picture.jpg"/>
          <p:cNvPicPr/>
          <p:nvPr/>
        </p:nvPicPr>
        <p:blipFill>
          <a:blip r:embed="rId8"/>
          <a:stretch/>
        </p:blipFill>
        <p:spPr>
          <a:xfrm>
            <a:off x="480060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1752480"/>
          <a:ext cx="7314840" cy="4740120"/>
        </p:xfrm>
        <a:graphic>
          <a:graphicData uri="http://schemas.openxmlformats.org/drawingml/2006/table">
            <a:tbl>
              <a:tblPr/>
              <a:tblGrid>
                <a:gridCol w="2553480"/>
                <a:gridCol w="1029960"/>
                <a:gridCol w="1321200"/>
                <a:gridCol w="2410200"/>
              </a:tblGrid>
              <a:tr h="80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enig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alignant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ymmetrica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symmetrical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s are eve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orders are uneve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ne shade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wo or more shade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maller than 1/4 inch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Larger than 1/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ABC’s of Skin 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Skin Cancer"/>
          <p:cNvPicPr/>
          <p:nvPr/>
        </p:nvPicPr>
        <p:blipFill>
          <a:blip r:embed="rId1"/>
          <a:stretch/>
        </p:blipFill>
        <p:spPr>
          <a:xfrm>
            <a:off x="1676520" y="1219320"/>
            <a:ext cx="6527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Dr. O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kin Can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http://www.doctoroz.com/videos/prevent-skin-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Canc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Your body cell’s are constantl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growing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divi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ometimes they reproduc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rapidl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uncontrollabl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, formin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m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okman Old Style"/>
              </a:rPr>
              <a:t>The uncontrollable growth of abnormal cells is called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umor = Ben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Tumor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= abnormal mass of tissue that has no natural role in the bo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Noncancerous =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ben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Grow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slowly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&amp; are surrounded b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membr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cccc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Prevents from spreading from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original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 si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hey don’t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spread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But can interfere with bod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man Old Style"/>
              </a:rPr>
              <a:t>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umor = Maligna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Cancerous =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malign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They spread to neighbor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tissues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through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blood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or lym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The spread of cancer from the point where it originated to other parts is called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metast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As cancer cells spread throughout the body they divide &amp; form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Bookman Old Style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tum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Remember. . .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harm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nor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n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competes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with normal cell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Remember. .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pu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pressur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on surrounding tissues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interfer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with bod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umors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arteries, veins and other passage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ancer can develop in an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par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of the body &amp;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differen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t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ymph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euk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arcin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Sarco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Lymph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 of the immun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Leukemia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the blood-forming org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man Old Style"/>
              </a:rPr>
              <a:t>Typ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Carcin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the glands and body linings, including the skin and the linings of the digestive tract and lu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Sarcomas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– cancers of connective tissue, including bones, ligaments, and mus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13:40Z</dcterms:created>
  <dc:creator>smeltzerc</dc:creator>
  <dc:description/>
  <dc:language>en-US</dc:language>
  <cp:lastModifiedBy>smeltzerc</cp:lastModifiedBy>
  <dcterms:modified xsi:type="dcterms:W3CDTF">2010-10-18T13:24:36Z</dcterms:modified>
  <cp:revision>32</cp:revision>
  <dc:subject/>
  <dc:title>Slide 1</dc:title>
</cp:coreProperties>
</file>